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C312-4ACC-47CB-B97D-F5849912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15D8-7DFD-4962-8BA3-79BF56E9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CCD8-DFE1-4CCA-87A8-D048A6C6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E42-4BD2-4ED8-8C26-84BAD5AD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C956-A6BA-4509-BA49-3737FB6E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35D7-328F-4C16-9F32-9C6DB2F6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9969-5AAA-4261-8FFF-4F0AD6F0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FEAA-6E13-4714-8B56-15490A50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FB68-F7A9-493C-AA02-2966AAC5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F97A-DA0D-4608-95F3-E1CA36FE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6052-CC16-499D-B8F4-13BE2B67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2718-E483-4568-BF04-C0680145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7C99-3525-4BFF-9811-77E754371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POWERPOI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 Mi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02T08:19:44Z</dcterms:created>
  <dc:creator>Max Yakimenko</dc:creator>
  <dc:description>test-Comments</dc:description>
  <dc:language>en-US</dc:language>
  <cp:lastModifiedBy>romain</cp:lastModifiedBy>
  <dcterms:modified xsi:type="dcterms:W3CDTF">2022-09-02T10:03:18Z</dcterms:modified>
  <cp:revision>3</cp:revision>
  <dc:subject>test-Subject</dc:subject>
  <dc:title>test-Title</dc:title>
</cp:coreProperties>
</file>