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3ADC-9F2B-48AF-BBEC-84F193F78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4EB1-8676-48D9-A6D6-6D886E576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1A49-B9B8-4190-9909-51D86B6E8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31B0-FBE3-45E9-90E9-007FC00F3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99B3-35DF-417A-B9DF-4A35ECEE4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B6B7-4725-45C9-A539-40B8818C9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4AAD-3517-4B9A-823D-FC39AB8EB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E32E-1EC4-41F9-BE74-207B32597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8531-C280-4894-80B2-8CADD33F2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55DC-ACD4-4318-99DE-E26A445A7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901D-510B-4AC3-86F3-B5564239A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BF4D-48B0-4EC4-9357-5E906469D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E6F82-2D5E-4FF8-A9DF-50AA8F126D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ST POWERPOI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 Mi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9-02T08:19:44Z</dcterms:created>
  <dc:creator>Max Yakimenko</dc:creator>
  <dc:description>test-Comments</dc:description>
  <dc:language>en-US</dc:language>
  <cp:lastModifiedBy>romain</cp:lastModifiedBy>
  <dcterms:modified xsi:type="dcterms:W3CDTF">2022-09-02T10:03:18Z</dcterms:modified>
  <cp:revision>3</cp:revision>
  <dc:subject>test-Subject</dc:subject>
  <dc:title>test-Title</dc:title>
</cp:coreProperties>
</file>