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8494-A787-496D-9F77-CD9395589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712D-6F46-4F87-B47C-27E4BDB0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CD98-B439-4A15-AB62-54749866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0B557-8911-4065-948A-DCDEDF732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553B-1E58-4E98-B764-2A1023570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CF6D-2F05-4CB9-96AF-B8E43E6C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EF47-D7DB-4EC3-B4F9-DE5D3C61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4DB3-9F2A-4421-85F7-7DDB13725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0448-B662-42CA-AA82-BF6ED25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273-E0B6-469F-A124-D8C73DED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A8B2-06E0-41B0-86D6-3C2F9190A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A336-8D10-4A09-8306-D4DCE8E6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F3E9D-5BF2-4790-8849-FF3627D02FF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9060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693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, we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5T07:21:25Z</dcterms:created>
  <dc:creator>exoplatform </dc:creator>
  <dc:description/>
  <dc:language>en-US</dc:language>
  <cp:lastModifiedBy/>
  <cp:revision>0</cp:revision>
  <dc:subject/>
  <dc:title/>
</cp:coreProperties>
</file>