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D62D-01F9-4A10-9C7B-01F98D264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A1B0-B689-46B0-8AA3-81555FE86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8580-AA3D-4098-96B6-651E8FDDA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AA57-F67D-4569-AECC-AB5E195BA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8480-290A-4BD5-8977-D805142D3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1B29-F0EE-46C5-88D3-CE7A7E6E7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A54C-2E85-4A18-9452-7041B163E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4FEF-C728-4261-A129-BD823145E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74D0-A5A7-468F-AABB-290F2D73F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A16A-FAD7-4B0F-879F-5A272CF81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AC05-C3FB-4C89-84D9-2F69AA56D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456B-5F81-4367-B274-D903ED1D9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86AB02-8E41-41C7-B756-645033655BB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9060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, we 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5T07:21:25Z</dcterms:created>
  <dc:creator>exoplatform </dc:creator>
  <dc:description/>
  <dc:language>en-US</dc:language>
  <cp:lastModifiedBy/>
  <cp:revision>0</cp:revision>
  <dc:subject/>
  <dc:title/>
</cp:coreProperties>
</file>