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1B449-9836-4428-92EC-DCCD518A99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4FAB4F-2B5B-436A-88B0-E3C2D6F831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E4E76-F6C1-453C-8F8A-F0BDAB7F11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0AE54-585B-4616-8C67-BC01D101E5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3793E4-6533-4D35-9674-5A84F33BE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74C7BD-A8CA-418A-94FC-856E0BF4C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887BC-82D0-427E-80D0-854925E9C2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31B69-30A3-4019-8C69-09913CA359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BA252D-A237-406F-9F54-E529C6A9F0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712D-1129-4CB7-BADF-E558E1D2A9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2C81F5-0A65-4298-9167-53B222876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D5AC47-B598-484F-85D7-CE563646BF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F24A4C-104C-4F0C-A39E-82161D9DB201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353880" y="398160"/>
            <a:ext cx="7772400" cy="7570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Calibri"/>
              </a:rPr>
              <a:t>TEST POWERPOIN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304920" y="1466640"/>
            <a:ext cx="853416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Manchester United 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ts val="2585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453960"/>
                <a:tab algn="l" pos="911160"/>
                <a:tab algn="l" pos="1368360"/>
                <a:tab algn="l" pos="1825560"/>
                <a:tab algn="l" pos="2282760"/>
                <a:tab algn="l" pos="2739960"/>
                <a:tab algn="l" pos="3197160"/>
                <a:tab algn="l" pos="3654360"/>
                <a:tab algn="l" pos="4111560"/>
                <a:tab algn="l" pos="4568760"/>
                <a:tab algn="l" pos="5025960"/>
                <a:tab algn="l" pos="5483160"/>
                <a:tab algn="l" pos="5940360"/>
                <a:tab algn="l" pos="6397560"/>
                <a:tab algn="l" pos="6854760"/>
                <a:tab algn="l" pos="7311960"/>
                <a:tab algn="l" pos="7769160"/>
                <a:tab algn="l" pos="8226360"/>
                <a:tab algn="l" pos="8683560"/>
                <a:tab algn="l" pos="914076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AC Milan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294920" y="81000"/>
            <a:ext cx="7767720" cy="75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SLIDE 2 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685440" y="1143000"/>
            <a:ext cx="7767720" cy="4797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Eric Canton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Kak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Ronald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just">
              <a:spcBef>
                <a:spcPts val="1089"/>
              </a:spcBef>
              <a:spcAft>
                <a:spcPts val="286"/>
              </a:spcAft>
              <a:buClr>
                <a:srgbClr val="000000"/>
              </a:buClr>
              <a:buFont typeface="Arial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The natural scients university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8-31T09:33:00Z</dcterms:created>
  <dc:creator>Max Yakimenko</dc:creator>
  <dc:description>test-Comments</dc:description>
  <cp:keywords>test-Keywords</cp:keywords>
  <dc:language>en-US</dc:language>
  <cp:lastModifiedBy>Max Yakimenko</cp:lastModifiedBy>
  <dcterms:modified xsi:type="dcterms:W3CDTF">2010-08-31T09:34:15Z</dcterms:modified>
  <cp:revision>1</cp:revision>
  <dc:subject>test-Subject</dc:subject>
  <dc:title>test-Title</dc:title>
</cp:coreProperties>
</file>