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625E-116B-4AE6-B018-3651068E3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4A2D-FF0D-4F8A-8253-1986C246E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BFC9-D924-4CE9-86E0-A09472C31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4756-B31D-4592-86C2-4081BE264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0E21-DAA1-4ADB-9C62-2AF5C9130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8A56-F4FE-46DF-859C-7BC21EF1D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81DD-B96D-4A2E-A94E-4BE612CE3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7B13-4322-476A-A83A-08537CEF3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4567-025F-4576-B6DC-05F9EAEB5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FA2B-E09B-425C-9E5E-5263A3494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602C-3683-4D2A-A582-1EC96F340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D7A5-A139-4CFD-8702-8D2F93838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2053E-EA55-4D59-85EB-972AB10650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ST POWERPOI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 Mi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9-02T08:19:44Z</dcterms:created>
  <dc:creator>Max Yakimenko</dc:creator>
  <dc:description>test-Comments</dc:description>
  <dc:language>en-US</dc:language>
  <cp:lastModifiedBy>romain</cp:lastModifiedBy>
  <dcterms:modified xsi:type="dcterms:W3CDTF">2022-09-02T10:03:18Z</dcterms:modified>
  <cp:revision>3</cp:revision>
  <dc:subject>test-Subject</dc:subject>
  <dc:title>test-Title</dc:title>
</cp:coreProperties>
</file>