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659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647160"/>
            <a:ext cx="77659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64716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5240" y="364716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1640" y="114264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840" y="114264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64716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1640" y="364716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840" y="364716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6592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659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94920" y="81000"/>
            <a:ext cx="776628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64716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65920" cy="47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364716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647160"/>
            <a:ext cx="77659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659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647160"/>
            <a:ext cx="77659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64716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364716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1640" y="114264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7840" y="114264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64716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1640" y="364716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7840" y="3647160"/>
            <a:ext cx="25005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659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4920" y="81000"/>
            <a:ext cx="7766280" cy="34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64716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240" y="364716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142640"/>
            <a:ext cx="37897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47160"/>
            <a:ext cx="776592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6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6592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1371600" y="0"/>
            <a:ext cx="7767720" cy="2128680"/>
            <a:chOff x="1371600" y="0"/>
            <a:chExt cx="7767720" cy="2128680"/>
          </a:xfrm>
        </p:grpSpPr>
        <p:pic>
          <p:nvPicPr>
            <p:cNvPr id="39" name="" descr=""/>
            <p:cNvPicPr/>
            <p:nvPr/>
          </p:nvPicPr>
          <p:blipFill>
            <a:blip r:embed="rId2"/>
            <a:stretch/>
          </p:blipFill>
          <p:spPr>
            <a:xfrm>
              <a:off x="1371600" y="0"/>
              <a:ext cx="2266920" cy="21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" name="" descr=""/>
            <p:cNvPicPr/>
            <p:nvPr/>
          </p:nvPicPr>
          <p:blipFill>
            <a:blip r:embed="rId3"/>
            <a:stretch/>
          </p:blipFill>
          <p:spPr>
            <a:xfrm>
              <a:off x="3637080" y="0"/>
              <a:ext cx="5502240" cy="212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" name=""/>
          <p:cNvSpPr/>
          <p:nvPr/>
        </p:nvSpPr>
        <p:spPr>
          <a:xfrm>
            <a:off x="1371600" y="0"/>
            <a:ext cx="7772400" cy="2133720"/>
          </a:xfrm>
          <a:prstGeom prst="roundRect">
            <a:avLst>
              <a:gd name="adj" fmla="val 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1380960" cy="2128680"/>
            <a:chOff x="0" y="0"/>
            <a:chExt cx="1380960" cy="212868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1365120" cy="2128680"/>
            </a:xfrm>
            <a:custGeom>
              <a:avLst/>
              <a:gdLst>
                <a:gd name="textAreaLeft" fmla="*/ 360 w 1365120"/>
                <a:gd name="textAreaRight" fmla="*/ 1364760 w 1365120"/>
                <a:gd name="textAreaTop" fmla="*/ 360 h 2128680"/>
                <a:gd name="textAreaBottom" fmla="*/ 2128320 h 2128680"/>
              </a:gdLst>
              <a:ahLst/>
              <a:rect l="textAreaLeft" t="textAreaTop" r="textAreaRight" b="textAreaBottom"/>
              <a:pathLst>
                <a:path w="21600" h="33678">
                  <a:moveTo>
                    <a:pt x="25" y="0"/>
                  </a:moveTo>
                  <a:arcTo wR="25" hR="25" stAng="16200000" swAng="-5400000"/>
                  <a:lnTo>
                    <a:pt x="0" y="33653"/>
                  </a:lnTo>
                  <a:arcTo wR="25" hR="25" stAng="10800000" swAng="-5400000"/>
                  <a:lnTo>
                    <a:pt x="21575" y="33678"/>
                  </a:lnTo>
                  <a:arcTo wR="25" hR="25" stAng="5400000" swAng="-5400000"/>
                  <a:lnTo>
                    <a:pt x="21600" y="25"/>
                  </a:lnTo>
                  <a:arcTo wR="25" hR="25" stAng="0" swAng="-5400000"/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609480"/>
              <a:ext cx="684360" cy="381240"/>
            </a:xfrm>
            <a:prstGeom prst="roundRect">
              <a:avLst>
                <a:gd name="adj" fmla="val 41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7880" y="990720"/>
              <a:ext cx="703080" cy="380880"/>
            </a:xfrm>
            <a:prstGeom prst="roundRect">
              <a:avLst>
                <a:gd name="adj" fmla="val 41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952880" y="6272280"/>
            <a:ext cx="4191120" cy="585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LID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100000"/>
              </a:lnSpc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