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8880-8820-4C01-9ADA-12A1642FA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3E5A-842B-4EEB-AA8E-48D19F4B4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CECA-C643-49D7-A6CD-B78AD485E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B282-20B7-4972-A7C6-45155200B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1E00-521D-4EBB-9D06-7742F3D1A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D90A-A9D2-4772-93B8-7B1D822CB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4CBF-B2A9-4340-B919-00D61EE00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2C59-BAB2-4976-B59B-89B139599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73BC-CEAC-4442-8CC4-7888A1C76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1CD8-2103-4222-8F7E-F66D3DBBA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3E1A-CDD7-46AD-9641-A6CB9E0E4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5DBA-D24B-4511-8290-E2E216490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72F84-C04E-46EC-9B16-E6016BF091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ST POWERPOI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 Mi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9-02T08:19:44Z</dcterms:created>
  <dc:creator>Max Yakimenko</dc:creator>
  <dc:description>test-Comments</dc:description>
  <dc:language>en-US</dc:language>
  <cp:lastModifiedBy>romain</cp:lastModifiedBy>
  <dcterms:modified xsi:type="dcterms:W3CDTF">2022-09-02T10:03:18Z</dcterms:modified>
  <cp:revision>3</cp:revision>
  <dc:subject>test-Subject</dc:subject>
  <dc:title>test-Title</dc:title>
</cp:coreProperties>
</file>