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36D5-5D76-4ABD-B523-4B030558D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BD90-8137-495D-A8C4-CFA749B3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1D59-864B-4EA5-8306-29A3829DA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876E-7F6D-4C74-A95C-621EA6C77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25D2-770C-41FE-B2CF-0B3000C7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3790-32FC-4352-B5BA-A7B46015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30DD-52AB-4B8B-8074-90FBBCC57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DAAC-49C0-40BA-B77A-ADEE41E4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F1AA-D950-4763-9478-244B8E2B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1243-0C4A-42BF-80F6-DA9461C1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9C65-E6A2-450E-B7C9-07131D2E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FF26-AE98-479C-8EB8-FA895E35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459D-E241-43D3-B09C-1C13924C56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POWER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 Mi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2T08:19:44Z</dcterms:created>
  <dc:creator>Max Yakimenko</dc:creator>
  <dc:description>test-Comments</dc:description>
  <dc:language>en-US</dc:language>
  <cp:lastModifiedBy>romain</cp:lastModifiedBy>
  <dcterms:modified xsi:type="dcterms:W3CDTF">2022-09-02T10:03:18Z</dcterms:modified>
  <cp:revision>3</cp:revision>
  <dc:subject>test-Subject</dc:subject>
  <dc:title>test-Title</dc:title>
</cp:coreProperties>
</file>