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BECE-B9A3-4C2F-BB9C-CA6AD9A1B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FED2-63B8-41A2-BB94-F05CD4272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984A-6051-41E4-9A09-CC9282393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8A95-3F9F-46BC-B6A2-B0C219F3E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C4A4-A75F-410A-AED2-B7E0378D7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A1CB-2137-4463-BA17-B37E6B437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EF94-79E1-4963-AE5D-63B7F95C1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B7F6-050B-482A-A3BD-511DB4218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EC47-8235-472E-8C4E-F6854062C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064D-86D2-42FB-9C80-263C77740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3644-E26F-49E9-8757-C00AE6E02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1D43-BA83-4044-A849-718E3BA82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E2F2B9-3C95-4BD5-BC60-CDC92A660FB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9060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, we 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5T07:21:25Z</dcterms:created>
  <dc:creator>exoplatform </dc:creator>
  <dc:description/>
  <dc:language>en-US</dc:language>
  <cp:lastModifiedBy/>
  <cp:revision>0</cp:revision>
  <dc:subject/>
  <dc:title/>
</cp:coreProperties>
</file>